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92503"/>
        <c:axId val="57651374"/>
      </c:barChart>
      <c:catAx>
        <c:axId val="70892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51374"/>
        <c:crosses val="autoZero"/>
        <c:auto val="1"/>
        <c:lblAlgn val="ctr"/>
        <c:lblOffset val="100"/>
        <c:noMultiLvlLbl val="0"/>
      </c:catAx>
      <c:valAx>
        <c:axId val="57651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2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F58-D5E7-4C0B-9DF4-41ED75AA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3AA-F9A4-4A5B-8148-68776CA6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7ED-C806-4BD1-B853-C053AD04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076-B213-4CF9-BE73-7D585A09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053-1674-419D-8AEF-8260FEAD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7E6-4DF3-4DCE-92F7-03E89304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0B0-226D-4AA8-8E72-B610DC84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0E7-69BA-41D7-9516-483408AD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D12-5E94-4860-849B-F17723C9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436-A8C4-4CA4-9BB2-8B0542DE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347-5DAC-45D3-9BB9-342E48C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10F-EE16-48F1-A7FE-99A26A5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AFB28-FC9E-4988-B024-BBEA8122D4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